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52031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338560" y="685440"/>
            <a:ext cx="2180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766-2D20-4A5D-AB52-970670CDCF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338560" y="685800"/>
            <a:ext cx="218088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27E0-C54C-4C72-A38D-456BA63420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AC9-B49B-4667-A3A1-0B2FAAB3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226821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22893840"/>
            <a:ext cx="226821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89E-E50B-4259-89B6-65651E4B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82600" y="9240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22893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882600" y="22893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7D8-1839-4E3B-8499-3E3F03D9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730332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929080" y="9240840"/>
            <a:ext cx="730332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598160" y="9240840"/>
            <a:ext cx="730332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22893840"/>
            <a:ext cx="730332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929080" y="22893840"/>
            <a:ext cx="730332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598160" y="22893840"/>
            <a:ext cx="730332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52C-A6E4-4267-A0A1-6DF6225F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9240840"/>
            <a:ext cx="22682160" cy="261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25"/>
              </a:spcBef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217-9CDA-418C-A6BA-2F0CB0B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22682160" cy="2613960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17B-2762-4C9D-830A-C8EF47EE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11068560" cy="2613960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882600" y="9240840"/>
            <a:ext cx="11068560" cy="2613960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057-D360-4658-95A4-C4F4561A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58E-9DA4-42EE-92D6-89D74A2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0360" y="1584360"/>
            <a:ext cx="2268216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25"/>
              </a:spcBef>
              <a:tabLst>
                <a:tab algn="l" pos="0"/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9C7-6FFF-40D4-89BF-9B0F1C6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882600" y="9240840"/>
            <a:ext cx="11068560" cy="2613960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22893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58E-0A85-4F2A-8C62-0EBE015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11068560" cy="2613960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882600" y="9240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82600" y="22893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138-D898-4BCC-AE8D-4E91502C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9240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82600" y="9240840"/>
            <a:ext cx="110685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22893840"/>
            <a:ext cx="22682160" cy="1246824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/>
          </a:bodyPr>
          <a:p>
            <a:pPr indent="0">
              <a:spcBef>
                <a:spcPts val="3725"/>
              </a:spcBef>
              <a:buNone/>
              <a:tabLst>
                <a:tab algn="l" pos="4233960"/>
                <a:tab algn="l" pos="846756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014-C5C7-44AE-9E42-E9A9A597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c5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0360" y="1584360"/>
            <a:ext cx="22682160" cy="660096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ctr">
            <a:noAutofit/>
          </a:bodyPr>
          <a:p>
            <a:pPr indent="0" algn="ctr">
              <a:buNone/>
              <a:tabLst>
                <a:tab algn="l" pos="0"/>
                <a:tab algn="l" pos="4233960"/>
                <a:tab algn="l" pos="8467560"/>
              </a:tabLst>
            </a:pP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9240840"/>
            <a:ext cx="22682160" cy="2613960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rmAutofit fontScale="89000"/>
          </a:bodyPr>
          <a:p>
            <a:pPr marL="1411200" indent="-1411200">
              <a:spcBef>
                <a:spcPts val="3725"/>
              </a:spcBef>
              <a:buClr>
                <a:srgbClr val="000000"/>
              </a:buClr>
              <a:buFont typeface="Arial"/>
              <a:buChar char="•"/>
              <a:tabLst>
                <a:tab algn="l" pos="4233960"/>
                <a:tab algn="l" pos="846756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  <a:p>
            <a:pPr lvl="1" marL="3061440" indent="-1178280">
              <a:spcBef>
                <a:spcPts val="3725"/>
              </a:spcBef>
              <a:buClr>
                <a:srgbClr val="000000"/>
              </a:buClr>
              <a:buFont typeface="Arial"/>
              <a:buChar char="–"/>
              <a:tabLst>
                <a:tab algn="l" pos="4233960"/>
                <a:tab algn="l" pos="846756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  <a:p>
            <a:pPr lvl="2" marL="4706280" indent="-937800">
              <a:spcBef>
                <a:spcPts val="3725"/>
              </a:spcBef>
              <a:buClr>
                <a:srgbClr val="000000"/>
              </a:buClr>
              <a:buFont typeface="Arial"/>
              <a:buChar char="•"/>
              <a:tabLst>
                <a:tab algn="l" pos="4233960"/>
                <a:tab algn="l" pos="846756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  <a:p>
            <a:pPr lvl="3" marL="6590880" indent="-939240">
              <a:spcBef>
                <a:spcPts val="3725"/>
              </a:spcBef>
              <a:buClr>
                <a:srgbClr val="000000"/>
              </a:buClr>
              <a:buFont typeface="Arial"/>
              <a:buChar char="–"/>
              <a:tabLst>
                <a:tab algn="l" pos="4233960"/>
                <a:tab algn="l" pos="846756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  <a:p>
            <a:pPr lvl="4" marL="8475840" indent="-940680">
              <a:spcBef>
                <a:spcPts val="3725"/>
              </a:spcBef>
              <a:buClr>
                <a:srgbClr val="000000"/>
              </a:buClr>
              <a:buFont typeface="Arial"/>
              <a:buChar char="»"/>
              <a:tabLst>
                <a:tab algn="l" pos="4233960"/>
                <a:tab algn="l" pos="846756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  <a:p>
            <a:pPr lvl="5" marL="8475840" indent="-940680">
              <a:spcBef>
                <a:spcPts val="3725"/>
              </a:spcBef>
              <a:buClr>
                <a:srgbClr val="000000"/>
              </a:buClr>
              <a:buFont typeface="Arial"/>
              <a:buChar char="»"/>
              <a:tabLst>
                <a:tab algn="l" pos="4233960"/>
                <a:tab algn="l" pos="846756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  <a:p>
            <a:pPr lvl="6" marL="8475840" indent="-940680">
              <a:spcBef>
                <a:spcPts val="3725"/>
              </a:spcBef>
              <a:buClr>
                <a:srgbClr val="000000"/>
              </a:buClr>
              <a:buFont typeface="Arial"/>
              <a:buChar char="»"/>
              <a:tabLst>
                <a:tab algn="l" pos="4233960"/>
                <a:tab algn="l" pos="846756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60360" y="36068040"/>
            <a:ext cx="5880240" cy="274968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610480" y="36068040"/>
            <a:ext cx="7981920" cy="274968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062280" y="36068040"/>
            <a:ext cx="5879880" cy="2749680"/>
          </a:xfrm>
          <a:prstGeom prst="rect">
            <a:avLst/>
          </a:prstGeom>
          <a:noFill/>
          <a:ln w="0">
            <a:noFill/>
          </a:ln>
        </p:spPr>
        <p:txBody>
          <a:bodyPr lIns="423360" rIns="423360" tIns="211680" bIns="211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A15-411B-4BA2-8162-923BD0D373CB}" type="slidenum">
              <a:rPr b="0" lang="zh-CN" sz="6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6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2"/>
          <p:cNvSpPr/>
          <p:nvPr/>
        </p:nvSpPr>
        <p:spPr>
          <a:xfrm>
            <a:off x="1270080" y="1581120"/>
            <a:ext cx="261720" cy="55785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9" name="Rectangle 62"/>
          <p:cNvSpPr/>
          <p:nvPr/>
        </p:nvSpPr>
        <p:spPr>
          <a:xfrm>
            <a:off x="23740920" y="1581120"/>
            <a:ext cx="262080" cy="55785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0" name="Text Box 64"/>
          <p:cNvSpPr/>
          <p:nvPr/>
        </p:nvSpPr>
        <p:spPr>
          <a:xfrm>
            <a:off x="5591160" y="2176560"/>
            <a:ext cx="18040320" cy="4222440"/>
          </a:xfrm>
          <a:prstGeom prst="rect">
            <a:avLst/>
          </a:prstGeom>
          <a:gradFill rotWithShape="0">
            <a:gsLst>
              <a:gs pos="0">
                <a:srgbClr val="87c5cb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233960"/>
                <a:tab algn="l" pos="846756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宋体"/>
              </a:rPr>
              <a:t>仪器与电子学院实验室</a:t>
            </a:r>
            <a:endParaRPr b="1" lang="en-US" sz="11500" spc="-1" strike="noStrike">
              <a:solidFill>
                <a:srgbClr val="00808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4233960"/>
                <a:tab algn="l" pos="846756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宋体"/>
              </a:rPr>
              <a:t>实验项目</a:t>
            </a:r>
            <a:endParaRPr b="1" lang="en-US" sz="115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57240" y="9058320"/>
            <a:ext cx="211838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8080"/>
                </a:solidFill>
                <a:latin typeface="华文宋体"/>
                <a:ea typeface="华文宋体"/>
              </a:rPr>
              <a:t>        </a:t>
            </a:r>
            <a:endParaRPr b="1" lang="en-US" sz="5000" spc="-1" strike="noStrike">
              <a:solidFill>
                <a:srgbClr val="00808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1247760" y="7305840"/>
            <a:ext cx="22601160" cy="29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实验课程：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实验项目：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5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实验课程：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实验项目：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5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实验课程：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实验项目：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8080"/>
                </a:solidFill>
                <a:latin typeface="Arial"/>
              </a:rPr>
              <a:t>5</a:t>
            </a:r>
            <a:r>
              <a:rPr b="1" lang="zh-CN" sz="8000" spc="-1" strike="noStrike">
                <a:solidFill>
                  <a:srgbClr val="008080"/>
                </a:solidFill>
                <a:latin typeface="Arial"/>
              </a:rPr>
              <a:t>、</a:t>
            </a:r>
            <a:endParaRPr b="1" lang="en-US" sz="80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53" name="Picture 12" descr="C:\Users\ibm\AppData\Roaming\Tencent\Users\420540900\QQ\WinTemp\RichOle\76T__@T)WF3I1)[_T40$GS3.png"/>
          <p:cNvPicPr/>
          <p:nvPr/>
        </p:nvPicPr>
        <p:blipFill>
          <a:blip r:embed="rId1"/>
          <a:stretch/>
        </p:blipFill>
        <p:spPr>
          <a:xfrm>
            <a:off x="2035080" y="2200320"/>
            <a:ext cx="3556080" cy="426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7"/>
          <p:cNvSpPr/>
          <p:nvPr/>
        </p:nvSpPr>
        <p:spPr>
          <a:xfrm>
            <a:off x="0" y="37429920"/>
            <a:ext cx="25203240" cy="2175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233960"/>
                <a:tab algn="l" pos="8467560"/>
              </a:tabLst>
            </a:pP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4233960"/>
                <a:tab algn="l" pos="8467560"/>
              </a:tabLst>
            </a:pP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4233960"/>
                <a:tab algn="l" pos="8467560"/>
              </a:tabLst>
            </a:pP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5" name="Text Box 69"/>
          <p:cNvSpPr/>
          <p:nvPr/>
        </p:nvSpPr>
        <p:spPr>
          <a:xfrm>
            <a:off x="15602040" y="35229960"/>
            <a:ext cx="960120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233960"/>
                <a:tab algn="l" pos="8467560"/>
              </a:tabLst>
            </a:pP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4233960"/>
                <a:tab algn="l" pos="8467560"/>
              </a:tabLst>
            </a:pP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4233960"/>
                <a:tab algn="l" pos="8467560"/>
              </a:tabLst>
            </a:pP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Text Box 70"/>
          <p:cNvSpPr/>
          <p:nvPr/>
        </p:nvSpPr>
        <p:spPr>
          <a:xfrm>
            <a:off x="16668720" y="35229960"/>
            <a:ext cx="8534520" cy="2657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233960"/>
                <a:tab algn="l" pos="8467560"/>
              </a:tabLst>
            </a:pPr>
            <a:endParaRPr b="1" lang="en-US" sz="3400" spc="-1" strike="noStrike">
              <a:solidFill>
                <a:srgbClr val="008080"/>
              </a:solidFill>
              <a:latin typeface="Arial"/>
            </a:endParaRPr>
          </a:p>
          <a:p>
            <a:pPr>
              <a:tabLst>
                <a:tab algn="l" pos="0"/>
                <a:tab algn="l" pos="4233960"/>
                <a:tab algn="l" pos="846756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endParaRPr b="1" lang="en-US" sz="5400" spc="-1" strike="noStrike">
              <a:solidFill>
                <a:srgbClr val="00808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233960"/>
                <a:tab algn="l" pos="8467560"/>
              </a:tabLst>
            </a:pPr>
            <a:endParaRPr b="1" lang="en-US" sz="5400" spc="-1" strike="noStrike">
              <a:solidFill>
                <a:srgbClr val="00808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233960"/>
                <a:tab algn="l" pos="8467560"/>
              </a:tabLst>
            </a:pPr>
            <a:endParaRPr b="1" lang="en-US" sz="5400" spc="-1" strike="noStrike">
              <a:solidFill>
                <a:srgbClr val="00808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233960"/>
                <a:tab algn="l" pos="8467560"/>
              </a:tabLst>
            </a:pPr>
            <a:endParaRPr b="1" lang="en-US" sz="5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7" name="AutoShape 74"/>
          <p:cNvSpPr/>
          <p:nvPr/>
        </p:nvSpPr>
        <p:spPr>
          <a:xfrm rot="5400000">
            <a:off x="16617600" y="35220240"/>
            <a:ext cx="2235240" cy="2133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 anchorCtr="1" vert="eaVert" rot="10800000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" name="Text Box 76"/>
          <p:cNvSpPr/>
          <p:nvPr/>
        </p:nvSpPr>
        <p:spPr>
          <a:xfrm>
            <a:off x="20869200" y="35798040"/>
            <a:ext cx="4133880" cy="981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4233960"/>
                <a:tab algn="l" pos="8467560"/>
              </a:tabLst>
            </a:pPr>
            <a:r>
              <a:rPr b="0" lang="zh-CN" sz="5900" spc="-1" strike="noStrike">
                <a:solidFill>
                  <a:srgbClr val="ffffff"/>
                </a:solidFill>
                <a:latin typeface="Arial"/>
                <a:ea typeface="华文行楷"/>
              </a:rPr>
              <a:t>仪器与电子学院</a:t>
            </a:r>
            <a:endParaRPr b="1" lang="en-US" sz="59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9" name="Text Box 77"/>
          <p:cNvSpPr/>
          <p:nvPr/>
        </p:nvSpPr>
        <p:spPr>
          <a:xfrm>
            <a:off x="17402040" y="37963440"/>
            <a:ext cx="7801200" cy="1392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33960"/>
                <a:tab algn="l" pos="846756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华文行楷"/>
                <a:ea typeface="华文行楷"/>
              </a:rPr>
              <a:t>School  of  Instrument  and  Electrics</a:t>
            </a:r>
            <a:endParaRPr b="1" lang="en-US" sz="43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60" name="Picture 16" descr="E:\学院\实验室\Figures\yh.png"/>
          <p:cNvPicPr/>
          <p:nvPr/>
        </p:nvPicPr>
        <p:blipFill>
          <a:blip r:embed="rId2"/>
          <a:stretch/>
        </p:blipFill>
        <p:spPr>
          <a:xfrm>
            <a:off x="18773640" y="35728200"/>
            <a:ext cx="1905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21:45:23Z</dcterms:created>
  <dc:creator>Cindy Kranz</dc:creator>
  <dc:description/>
  <dc:language>en-US</dc:language>
  <cp:lastModifiedBy>stoneshi</cp:lastModifiedBy>
  <dcterms:modified xsi:type="dcterms:W3CDTF">2016-11-09T11:00:07Z</dcterms:modified>
  <cp:revision>213</cp:revision>
  <dc:subject/>
  <dc:title>Style E 24 by 4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